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70CE-B4C1-440E-8606-D6CA1A8A7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C82-D062-420B-9C90-7CCD9AE76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F92-EAA9-417F-9C8E-9FE36538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D80-0C39-491C-9BB8-DF5DA2F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4D3-A3B2-4590-8C82-7400E9C7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728-9DB4-4245-82A1-B2EB7D6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DEC-A113-45AA-B60C-30DB8FAE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765-AF21-4EBD-AE52-77867FF5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C2D-5DD8-41CE-8901-E11FCB5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984-6D8A-4B05-A7F6-EEFC8F4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B9B-7FB1-47FE-A2EE-A87EFEE5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1E2-EE5A-410E-8D1E-14D04B2D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FA8-95C9-43BA-B15E-A7CD26D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1EE-0FC4-4900-82B0-6010DFA7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3216-79C8-4CCF-AE97-82CAF3304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  <a:ea typeface="Acens"/>
              </a:rPr>
              <a:t>Основы православной культ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1\Рабочий стол\0_20f9c_3288c65_XL.jpeg"/>
          <p:cNvPicPr/>
          <p:nvPr/>
        </p:nvPicPr>
        <p:blipFill>
          <a:blip r:embed="rId1"/>
          <a:stretch/>
        </p:blipFill>
        <p:spPr>
          <a:xfrm>
            <a:off x="4724280" y="1066680"/>
            <a:ext cx="411480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295280" y="304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Апостол Пё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Рисунок2"/>
          <p:cNvPicPr/>
          <p:nvPr/>
        </p:nvPicPr>
        <p:blipFill>
          <a:blip r:embed="rId2"/>
          <a:stretch/>
        </p:blipFill>
        <p:spPr>
          <a:xfrm>
            <a:off x="380880" y="1066680"/>
            <a:ext cx="4097520" cy="52358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4495680" y="3276720"/>
            <a:ext cx="4248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Это изменение той оценки, которую человек дает своим поступ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28600" y="609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Раскаяние ( или покаяние) </a:t>
            </a: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8"/>
          <p:cNvSpPr/>
          <p:nvPr/>
        </p:nvSpPr>
        <p:spPr>
          <a:xfrm>
            <a:off x="609480" y="121932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чувство сожаления по поводу своего поступка, проступ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  <a:ea typeface="Arial"/>
              </a:rPr>
              <a:t>(Толковый словарь С. И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47960" y="1371600"/>
            <a:ext cx="4724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  <a:ea typeface="Arial"/>
              </a:rPr>
              <a:t>«Раздумь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сканирование0001"/>
          <p:cNvPicPr/>
          <p:nvPr/>
        </p:nvPicPr>
        <p:blipFill>
          <a:blip r:embed="rId1"/>
          <a:stretch/>
        </p:blipFill>
        <p:spPr>
          <a:xfrm>
            <a:off x="228600" y="228600"/>
            <a:ext cx="4437000" cy="6307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4724280" y="57913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Выполнила  смоленская школьница  Оля Федо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Arial"/>
                <a:ea typeface="Arial"/>
              </a:rPr>
              <a:t>ТЕЛЕФОН ДОВЕР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74-77-0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  <a:ea typeface="Arial"/>
              </a:rPr>
              <a:t>испо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сканирование0004"/>
          <p:cNvPicPr/>
          <p:nvPr/>
        </p:nvPicPr>
        <p:blipFill>
          <a:blip r:embed="rId1"/>
          <a:srcRect l="3954" t="633" r="3954" b="0"/>
          <a:stretch/>
        </p:blipFill>
        <p:spPr>
          <a:xfrm>
            <a:off x="380880" y="228600"/>
            <a:ext cx="3733920" cy="61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143000" y="533520"/>
            <a:ext cx="63244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914400" y="4572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Теперь я зна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Теперь я уме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d2d8a"/>
                </a:solidFill>
                <a:latin typeface="Arial"/>
              </a:rPr>
              <a:t>Теперь я хоч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4"/>
          <p:cNvPicPr/>
          <p:nvPr/>
        </p:nvPicPr>
        <p:blipFill>
          <a:blip r:embed="rId1"/>
          <a:stretch/>
        </p:blipFill>
        <p:spPr>
          <a:xfrm>
            <a:off x="2362320" y="3429000"/>
            <a:ext cx="426708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066680" y="762120"/>
            <a:ext cx="754380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6" descr="Рисунок1"/>
          <p:cNvPicPr/>
          <p:nvPr/>
        </p:nvPicPr>
        <p:blipFill>
          <a:blip r:embed="rId1"/>
          <a:stretch/>
        </p:blipFill>
        <p:spPr>
          <a:xfrm>
            <a:off x="1371600" y="2133720"/>
            <a:ext cx="422100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057400" y="-38088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1905120" y="5257800"/>
            <a:ext cx="678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0894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04920" y="24382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Arial"/>
              </a:rPr>
              <a:t>Совесть и раская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8600" y="609480"/>
            <a:ext cx="891540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22268"/>
                </a:solidFill>
                <a:uFillTx/>
                <a:latin typeface="Arial"/>
              </a:rPr>
              <a:t>Правила работы в группе(в паре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Активное участие кажд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Работаем вполголоса, не мешая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лушиваем ответ товарищей и приходим к единому мн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цениваем работу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22268"/>
                </a:solidFill>
                <a:uFillTx/>
                <a:latin typeface="Arial"/>
                <a:ea typeface="Arial"/>
              </a:rPr>
              <a:t>Задание к текст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  <a:ea typeface="Adobe Heiti Std R"/>
              </a:rPr>
              <a:t>Как вы думаете, чем могла бы закончится эта история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22268"/>
                </a:solidFill>
                <a:uFillTx/>
                <a:latin typeface="Arial"/>
                <a:ea typeface="Arial"/>
              </a:rPr>
              <a:t>Сове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  <a:ea typeface="Arial"/>
              </a:rPr>
              <a:t>чувство нравственной ответственности за свое поведение перед окружающими людьми, обществом; способность оценить свои поступ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  <a:ea typeface="Arial"/>
              </a:rPr>
              <a:t>(Толковый словарь С. И. Ожег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исунок3"/>
          <p:cNvPicPr/>
          <p:nvPr/>
        </p:nvPicPr>
        <p:blipFill>
          <a:blip r:embed="rId1"/>
          <a:stretch/>
        </p:blipFill>
        <p:spPr>
          <a:xfrm>
            <a:off x="228600" y="3657600"/>
            <a:ext cx="458316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22268"/>
                </a:solidFill>
                <a:latin typeface="Arial"/>
                <a:ea typeface="Arial"/>
              </a:rPr>
              <a:t>«Совесть без зубов, а грызет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222268"/>
                </a:solidFill>
                <a:uFillTx/>
                <a:latin typeface="Arial"/>
                <a:ea typeface="Arial"/>
              </a:rPr>
              <a:t>Самое главное в жизни человек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57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  <a:ea typeface="Arial"/>
              </a:rPr>
              <a:t>быть в ладу со своей сове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57200" y="35812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2268"/>
                </a:solidFill>
                <a:latin typeface="Arial"/>
              </a:rPr>
              <a:t>Поступать та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352680" y="358128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2268"/>
                </a:solidFill>
                <a:latin typeface="Arial"/>
              </a:rPr>
              <a:t>как подсказывает сове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457200" y="4495680"/>
            <a:ext cx="57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2268"/>
                </a:solidFill>
                <a:latin typeface="Arial"/>
              </a:rPr>
              <a:t>Если совершил ошибку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3505320" y="5029200"/>
            <a:ext cx="533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2268"/>
                </a:solidFill>
                <a:latin typeface="Arial"/>
              </a:rPr>
              <a:t>постараться её исправ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я</dc:creator>
  <dc:description/>
  <dc:language>en-US</dc:language>
  <cp:lastModifiedBy>User</cp:lastModifiedBy>
  <dcterms:modified xsi:type="dcterms:W3CDTF">2023-03-30T17:16:36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